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B45-C222-472C-90F5-E7C721A0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5F0-0634-4B4E-84E9-3B64584E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FF7-DD07-4E81-957A-5B30D976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A36-FAE6-4DA2-8D28-9092D8C3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0DFD-FBEB-41B1-AA77-181DE143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B8BE-420A-4215-8E4F-826761ED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00CB-5B62-4B5D-96C9-AA9340F3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3F10-367D-4BCF-83B9-B0FE3081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A027-762E-4E2A-8E8F-C363C225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E985-53CC-4E09-8DC2-B1C648E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F202-4F41-40EB-80CA-3A141A0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599-BA2F-455A-9275-64A6098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318C-1BE5-4474-A275-0A0D30E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2E75-054B-421C-9C40-3161C916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850A-CE89-4981-894A-EDC3095C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9AA2-0ECE-47FC-A3A8-EAB52993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15C9-D3DF-4CE4-9DD9-C3E79D5F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E7D-E8B0-40BA-B580-065A5D9B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5BF-DC65-42F4-8FC5-A832299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47D-ADC5-4C12-BE8F-12CD7AFB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677-D12D-4B41-AF41-B411F33A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3C6-3718-4FC2-808D-A0C97378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7BD-7ECE-4C26-B158-63E9C047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71F-0B1B-4A71-8185-59D8ED29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BDA6-2BC4-4C35-AFF9-E76843EBCFA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99F3-BA21-4629-BD11-6D11BD05E26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Present Perfect T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стоящее совершен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рица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91636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211640" y="314172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7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казатели времен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ready (y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ntly (latel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n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ev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показателя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, результат не важен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ster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Continuou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все еще длится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ing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now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ьте на вопро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обознач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 Дайте пример употреб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образуе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троится общий вопрос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ажите показатели времени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м отличаю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t Simpl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Обозначает действие, которо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завершилось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в прошлом, но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меет отношение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 настоящему моменту. Результат этого действия налицо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: Mum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as cook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ма приготовила ужин (результат – ужин гото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42920" y="256500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Arial"/>
              </a:rPr>
              <a:t>Have/has</a:t>
            </a: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5640" y="378936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ve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question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450864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s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USA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066920" y="2349360"/>
            <a:ext cx="1152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19312200">
            <a:off x="3924000" y="321264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908000" y="350028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08720" y="3500280"/>
            <a:ext cx="21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е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3500000">
            <a:off x="5017320" y="320112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765440" y="4005360"/>
            <a:ext cx="79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o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268360" y="4005360"/>
            <a:ext cx="129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nsw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349800" y="4005360"/>
            <a:ext cx="7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e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64000" y="400536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e – saw –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see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403280" y="3141720"/>
            <a:ext cx="619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723600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443640" y="314172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a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1708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o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700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20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56000" y="3213000"/>
            <a:ext cx="20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0800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459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500720" y="3213000"/>
            <a:ext cx="21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40328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516720" y="3213000"/>
            <a:ext cx="22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Arial"/>
              </a:rPr>
              <a:t>or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ha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dinn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5663E-006 L -0.03402 -0.05667 C -0.04097 -0.06986 -0.05173 -0.07633 -0.06267 -0.07633 C -0.07517 -0.07633 -0.08541 -0.06986 -0.09236 -0.05667 L -0.12604 -2.45663E-006 E">
                                      <p:cBhvr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908000" y="3213000"/>
            <a:ext cx="208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6036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451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52720" y="321300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5564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867280" y="321300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n’t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268360" y="4005360"/>
            <a:ext cx="100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260360" y="4005360"/>
            <a:ext cx="12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n’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443640" y="400536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132000" y="400536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755640" y="400536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148360" y="400536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 А.В.</cp:lastModifiedBy>
  <dcterms:modified xsi:type="dcterms:W3CDTF">2009-09-23T03:54:37Z</dcterms:modified>
  <cp:revision>18</cp:revision>
  <dc:subject/>
  <dc:title>The Present Perfect Tense</dc:title>
</cp:coreProperties>
</file>